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3C2A-5CCE-4344-A7FF-67D96A86C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F7E2-3FCA-4B82-98F4-36F3C5E1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B67B-C7D7-4B24-A99A-E45133FAA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3202-6CD6-48AF-9674-7872C6A1F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3094-4FA9-4E1E-A8A7-A7618B38A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5B2BE-A8E5-4D87-847A-E99C7BA9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73DD2-9EBE-4E23-B3E5-83429C3F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C6E5-AE12-4166-95EF-BC603AA4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BD86-3640-42DB-93DC-D01B734E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FCCD-BE34-4D15-BB01-633213C8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8980-93BE-4922-8CEB-F638A30B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510E-4648-44FA-85CB-F49989FA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1911-D9E2-4E99-83E0-872546E5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13D5-543E-4EB9-9483-9A936889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82F9-F9A4-488D-9FC3-ABED1962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9C7F-3964-4668-B96E-C4F65806F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ABDB-AC10-47FE-947B-F65795642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339C-8A59-49DC-ABB5-6F37426C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9790-701F-400A-8F6F-610815A2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AEE6-44AF-42DA-B867-12CAC19E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E33F-13D3-42A8-9D0F-3F8F26DB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910B-5120-4FB1-B0A1-1986CA94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1CC8-3AE2-4011-AC26-85F596EB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F34B-07AE-4E07-A6E2-F708BB0F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39320" cy="25894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88e4"/>
                </a:gs>
                <a:gs pos="100000">
                  <a:srgbClr val="0068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5680" cy="825480"/>
              <a:chOff x="5600880" y="5897520"/>
              <a:chExt cx="1255680" cy="825480"/>
            </a:xfrm>
          </p:grpSpPr>
          <p:sp>
            <p:nvSpPr>
              <p:cNvPr id="4" name=""/>
              <p:cNvSpPr/>
              <p:nvPr/>
            </p:nvSpPr>
            <p:spPr>
              <a:xfrm>
                <a:off x="5853240" y="6048360"/>
                <a:ext cx="842760" cy="517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6040" cy="4352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4680" cy="3272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4360" cy="2509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3480" cy="1681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6600" cy="25416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3440" cy="1029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39680" cy="3412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480" y="5945040"/>
                <a:ext cx="1189080" cy="73044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0840" cy="457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1760" cy="82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79400" cy="1082520"/>
              <a:chOff x="2819520" y="5764320"/>
              <a:chExt cx="2579400" cy="10825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1240" cy="5968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0400" cy="5252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3800" cy="473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3440" cy="4078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4120" cy="379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4200" cy="3031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58920" cy="21276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1120" cy="936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1360" cy="29376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4440" cy="7318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4400" cy="7700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69920" cy="39852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fba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4080" cy="23652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0000" cy="7300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69880" cy="8920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09640" cy="6728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3720" cy="3697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1760" cy="10159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3080" cy="1301760"/>
              <a:chOff x="6553080" y="5334120"/>
              <a:chExt cx="2143080" cy="130176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5120" cy="115884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2200" cy="116856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5520" cy="39852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2680" cy="838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7440" cy="16992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5360" cy="5396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29960" cy="1411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6880" cy="6829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1440" cy="8445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7800" cy="1029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0440" cy="5050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6320" cy="42876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1280" cy="3686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1600" cy="2793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0640" cy="2192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198360" cy="1270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3200" cy="407880"/>
              <a:chOff x="8381880" y="4800600"/>
              <a:chExt cx="673200" cy="4078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6600" cy="1508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7880" cy="8424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3600" cy="24624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3480" cy="2700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4160" cy="2937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3760" cy="33192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3040" cy="29376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58560" cy="208080"/>
                <a:chOff x="8542440" y="4897440"/>
                <a:chExt cx="358560" cy="2080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58560" cy="20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7280" cy="16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6920" cy="12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4480" cy="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C5E4DA-EA52-4F32-BBCD-ACF5D3CAAB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39320" cy="25894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88e4"/>
                </a:gs>
                <a:gs pos="100000">
                  <a:srgbClr val="0068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5680" cy="825480"/>
              <a:chOff x="5600880" y="5897520"/>
              <a:chExt cx="1255680" cy="8254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3240" y="6048360"/>
                <a:ext cx="842760" cy="517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6040" cy="4352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4680" cy="3272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4360" cy="2509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3480" cy="1681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6600" cy="25416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3440" cy="1029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39680" cy="3412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480" y="5945040"/>
                <a:ext cx="1189080" cy="73044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0840" cy="457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1760" cy="82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79400" cy="1082520"/>
              <a:chOff x="2819520" y="5764320"/>
              <a:chExt cx="2579400" cy="10825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1240" cy="5968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0400" cy="5252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3800" cy="473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3440" cy="4078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4120" cy="379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4200" cy="3031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58920" cy="21276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1120" cy="936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1360" cy="29376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4440" cy="7318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4400" cy="7700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69920" cy="39852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fba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4080" cy="23652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0000" cy="7300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69880" cy="8920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09640" cy="6728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3720" cy="3697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1760" cy="10159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3080" cy="1301760"/>
              <a:chOff x="6553080" y="5334120"/>
              <a:chExt cx="2143080" cy="130176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5120" cy="115884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2200" cy="116856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5520" cy="39852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2680" cy="838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7440" cy="16992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5360" cy="5396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29960" cy="1411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6880" cy="6829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1440" cy="8445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7800" cy="1029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0440" cy="5050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6320" cy="42876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1280" cy="3686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1600" cy="2793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0640" cy="2192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198360" cy="1270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3200" cy="407880"/>
              <a:chOff x="8381880" y="4800600"/>
              <a:chExt cx="673200" cy="4078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6600" cy="1508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7880" cy="8424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3600" cy="24624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3480" cy="2700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4160" cy="2937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3760" cy="33192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3040" cy="29376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58560" cy="208080"/>
                <a:chOff x="8542440" y="4897440"/>
                <a:chExt cx="358560" cy="2080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58560" cy="20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7280" cy="16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6920" cy="12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4480" cy="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A9011-DBC3-49BA-8B6B-E7F4851477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800" spc="-1" strike="noStrike">
                <a:solidFill>
                  <a:srgbClr val="ccecff"/>
                </a:solidFill>
                <a:latin typeface="Arial"/>
              </a:rPr>
              <a:t>The New Deal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5334120" cy="405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National Labor Relations Act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(Wagner Act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tected the rights of workers to join labor un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lped unions and employers negotiate labor dispu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029200" y="1600200"/>
            <a:ext cx="35053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air Labor Standards A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federal minimum wage la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 hour work 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eral child labor la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257800" y="2286000"/>
            <a:ext cx="311796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ireside Cha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ular radio addresses by FDR to explain to the country what the gov’t was doing to solve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286000" y="3124080"/>
            <a:ext cx="4191120" cy="30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d the New Deal work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315200" cy="523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arm Pri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914400" y="1238400"/>
            <a:ext cx="7315200" cy="43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mploy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1913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gricultural Adjustment Administration:  AA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d farmers to grow less (decreased supply means increased valu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ised farmers on techniques to avoid “dust bowl” scen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209680" y="3200400"/>
            <a:ext cx="4267440" cy="345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ivilian Conservation Corps:  CCC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loyed young men to do conservation projects:  trails, roads, planting trees,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286000" y="2743200"/>
            <a:ext cx="4495680" cy="364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ennessee Valley Authority:  TV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ilt hydroelectric dams throughout several states in the So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d electricity to rural a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133720" y="3429000"/>
            <a:ext cx="4647960" cy="21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orks Progress Agency:  W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loyed 3.5 million workers in a variety of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ilt construction projects like airports and hospit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s division employed artists, photographers, and playwrigh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038480" y="419112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ederal Deposit Insurance Corporation:  FDIC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aranteed deposits in banks of up to $2,500 (it is $250,000 toda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286000" y="2895480"/>
            <a:ext cx="4676760" cy="202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cial Security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a pension to retired workers, unemployment benefits, and benefits to the disabled or depend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590920" y="3352680"/>
            <a:ext cx="3657600" cy="27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ederal Emergency Relief Act:  FER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ve direct aid to state and local governments for the unemploy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971800" y="2590920"/>
            <a:ext cx="3352680" cy="327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ecurities Exchange Commission:  SEC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ulates the stock market and banks to prevent fra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066680" y="3048120"/>
            <a:ext cx="2895840" cy="28954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5181480" y="3505320"/>
            <a:ext cx="2362320" cy="2033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14:50:30Z</dcterms:created>
  <dc:creator>Dominic Lambek</dc:creator>
  <dc:description/>
  <dc:language>en-US</dc:language>
  <cp:lastModifiedBy>Dominic Lambek</cp:lastModifiedBy>
  <dcterms:modified xsi:type="dcterms:W3CDTF">2010-05-06T02:50:36Z</dcterms:modified>
  <cp:revision>6</cp:revision>
  <dc:subject/>
  <dc:title>The New Deal</dc:title>
</cp:coreProperties>
</file>